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2AB9A-16D5-4D09-8E13-6087027854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AA7DE-F9A4-44C5-83EA-48C2DA05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4DB1A-76CC-4DD3-ABEE-71269AC3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0760-2A4A-49D6-995C-C1363D4825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C070A-03BB-462E-8A4D-F96655EC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E2892-9026-4204-9A24-B321D9A9DA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A86D0-26A8-437A-ADB1-8372DAD6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626A6-C6C6-45B1-8C07-6D8E0D5F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722BB-BA48-474E-A226-1E5D2820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9B4BB-296E-4108-AC82-93C7381D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5656-3C73-4B3E-B8A1-32272F0D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FB29A-848A-4199-AFE6-CB9A0BD0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0A1B7-CA17-4718-B910-A128D47C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AD411-EE6A-46D4-A0D5-7FC7C2EC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3D665-96C7-4B7E-A3D7-1B3F33C4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9EE50-974A-4BAA-B4D7-8CD4EA6D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EB78C-9025-46DF-AE9D-598492AF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C6143-A4AB-49C3-9325-76ADE3B59C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92AD-05BA-4BB7-B51F-50AF1E9B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28447-22C4-468E-B9DA-4F0D8CEA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9E38-C975-4C5D-A85E-F32D3147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D350-967F-4024-8FEF-57CD19F7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E79F7-4830-492A-970A-29E05EFC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EC81-994A-438A-86E9-48CE3D46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00800" y="6461280"/>
            <a:ext cx="19130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049640" y="62643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21760" y="6453360"/>
            <a:ext cx="3571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08E81-CBBD-46E7-B186-2C613BE23B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5200"/>
              </a:gs>
              <a:gs pos="50000">
                <a:srgbClr val="4f8b4f"/>
              </a:gs>
              <a:gs pos="100000">
                <a:srgbClr val="005200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817560"/>
            <a:ext cx="9144000" cy="105732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804960"/>
            <a:ext cx="9156600" cy="3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5780160" y="982800"/>
            <a:ext cx="63504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397560" y="1092240"/>
            <a:ext cx="25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4d00"/>
                </a:solidFill>
                <a:latin typeface="Lucida Grande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400800" y="6470280"/>
            <a:ext cx="1913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49640" y="62625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8321760" y="6468840"/>
            <a:ext cx="357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296AE-3C05-44F8-AF5C-D46EE440125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d773c"/>
                </a:solidFill>
                <a:latin typeface="Arial"/>
                <a:ea typeface="Arial"/>
              </a:rPr>
              <a:t>Welcom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Wikispaces in K–12 Educat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[date and time]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elcome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Read-only Web v. Read/Write Web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iki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Getting Started with Wikispace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rap-up and Q&amp;A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646956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404040"/>
                </a:solidFill>
                <a:latin typeface="Arial"/>
                <a:ea typeface="Arial"/>
              </a:rPr>
              <a:t>Originally developed by Mark Wagner, Ph.D., President &amp; CEO, EdTechTeam, Inc. </a:t>
            </a:r>
            <a:endParaRPr b="0" lang="en-US" sz="11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1: Evaluate 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ocate an educational wiki relevant to your work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valuate the wiki based on the following criteria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basic description of this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is the intended audience for the wiki and what w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are the intended contributors for the wiki and what w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does this wiki accomplish something that only a wiki can accomplish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could you adapt this a model for your own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evaluation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1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ime permitting, explore your classmates’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2: Edit a Wiki Page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o to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2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age o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ake turns with other participants adding to and editing the page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lay with some of the tools i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or toolbar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3: Creat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ttp://www.wikispaces.com/site/for/teachers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n Account (if you haven't already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This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Notification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New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Navig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nage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y Accou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more wikis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ngagement and motiv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ntext-embedded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quiry-driven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Reflection and metacogni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1</a:t>
            </a:r>
            <a:r>
              <a:rPr b="0" lang="en-US" sz="20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century skil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Concern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literac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cont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shar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reats and cyber-bully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Fraud and identity thef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talkers and predato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ack of understand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flection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most important thing you learned today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are your next steps for using wikis in your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you want to learn more abou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Go ahead, ask me anything.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4: Shar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answer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4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the URL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a basic description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is the intended audience for the wiki and what sh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are the intended contributors for the wiki and what sh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multi-media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6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other tools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7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one obstacle or issue you anticipated and how have you addressed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8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future plans do you have for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fter the workshop, explore your classmates'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elcome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read/write web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these things mean for you and your students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y are we her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-only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werful resource for educators and students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moves from publishers to consume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cannot be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e-way Web (Web 1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/Write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t is now as easy to create as it is to consum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nyone can publish, share, and change information onlin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wo-way Web (Web 2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is is changing our world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KaiTi"/>
              </a:rPr>
              <a:t>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 wiki is a website that anyone can edit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f you can use a word processor, you can use a wiki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see a history of changes and revert to earlier version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discuss the page in a threaded forum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line encyclopedia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and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users worldwid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articles in English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eat resource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Use with cau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class tex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Writing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oup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haring resource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ade level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ubject area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Learning Communities (PLC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Portfolio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lubs, PTAs, and even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pping of concepts, brainstorm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esentation too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13:11Z</dcterms:created>
  <dc:creator>Adam Frey</dc:creator>
  <dc:description/>
  <dc:language>en-US</dc:language>
  <cp:lastModifiedBy>Carole</cp:lastModifiedBy>
  <dcterms:modified xsi:type="dcterms:W3CDTF">2010-07-22T18:53:45Z</dcterms:modified>
  <cp:revision>128</cp:revision>
  <dc:subject/>
  <dc:title>Welcome</dc:title>
</cp:coreProperties>
</file>